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B1B-EBC3-4E6E-821C-2AE60329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34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25600"/>
            <a:ext cx="7534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D65-A8AE-4BF4-A775-DE5238DB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2560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27320" y="412560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779-3E5B-4C8A-ADE7-8AC41DA2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3680" y="198108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1040" y="198108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2560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3680" y="412560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1040" y="412560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193-4253-470C-A8E9-386E838C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DA0B-E0C4-49FB-8ADA-7063AFBD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344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3BF3-909B-40EA-9C08-4BC05E9D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34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B314-0335-4C69-8D56-BAF149F5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A806-7722-492A-9B7E-85256179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F0E1-2230-451B-9BA8-E9C711D6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34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EA4D-BB5C-4DCD-BABD-E37D66C9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2560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22E5-7F51-428B-B8F1-EE870712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344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1F2-8F66-4F49-B213-519D6DA5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27320" y="412560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5FE8-0E3F-4A7B-8352-EDA4CD9A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25600"/>
            <a:ext cx="7534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644E-BCEA-4E6D-9968-0CFFF3F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34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25600"/>
            <a:ext cx="7534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F86-CA2E-4E78-A351-70546F4C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2560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27320" y="412560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8FD2-AF81-4027-A49A-10921C51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3680" y="198108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1040" y="198108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2560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3680" y="412560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1040" y="4125600"/>
            <a:ext cx="2425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323B-482B-4D06-9431-CF27117B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34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BD6-FD9A-478C-9377-4EE99699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2A8-5D5F-4348-A6E1-C58861B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5B9-F2C3-4BC9-B5B1-09401A7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34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77F-05B9-4E04-A8E6-F136DE26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2560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982-E88F-481C-AF77-BDD15B4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27320" y="412560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3B1-0CD2-4383-A2B4-C8B70353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7320" y="1981080"/>
            <a:ext cx="36766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25600"/>
            <a:ext cx="75344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BB9-B289-4BE1-9FFD-0359048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0066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34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34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895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861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8954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EFB90-DDF4-49D9-A082-467E5F9154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0066ff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86120"/>
            <a:ext cx="7077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89576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36A3E-DD8D-4342-8FA6-EB2C119711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1159200"/>
            <a:ext cx="70866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6600" spc="-1" strike="noStrike">
                <a:solidFill>
                  <a:srgbClr val="ccff33"/>
                </a:solidFill>
                <a:latin typeface="Tahoma"/>
              </a:rPr>
              <a:t>WORD JUMBLE</a:t>
            </a:r>
            <a:br>
              <a:rPr sz="6600"/>
            </a:br>
            <a:r>
              <a:rPr b="1" lang="en-US" sz="6600" spc="-1" strike="noStrike">
                <a:solidFill>
                  <a:srgbClr val="ccff33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ccff33"/>
                </a:solidFill>
                <a:latin typeface="Tahoma"/>
              </a:rPr>
              <a:t>Standard 4 Trigonometry</a:t>
            </a:r>
            <a:br>
              <a:rPr sz="4000"/>
            </a:br>
            <a:r>
              <a:rPr b="1" lang="en-US" sz="4000" spc="-1" strike="noStrike">
                <a:solidFill>
                  <a:srgbClr val="ccff33"/>
                </a:solidFill>
                <a:latin typeface="Tahoma"/>
              </a:rPr>
              <a:t>By: Alysia Simmons</a:t>
            </a:r>
            <a:endParaRPr b="1" lang="en-US" sz="40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09680" y="0"/>
            <a:ext cx="449604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edjlwmrub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Screen%20shot%202011-02-18%20at%2011.02.59%20AM" descr=""/>
          <p:cNvPicPr/>
          <p:nvPr/>
        </p:nvPicPr>
        <p:blipFill>
          <a:blip r:embed=""/>
          <a:stretch/>
        </p:blipFill>
        <p:spPr>
          <a:xfrm>
            <a:off x="5715000" y="6629400"/>
            <a:ext cx="1440" cy="228600"/>
          </a:xfrm>
          <a:prstGeom prst="rect">
            <a:avLst/>
          </a:prstGeom>
          <a:ln w="0">
            <a:noFill/>
          </a:ln>
        </p:spPr>
      </p:pic>
      <p:pic>
        <p:nvPicPr>
          <p:cNvPr id="112" name="Screen%20shot%202011-02-18%20at%202.00.03%20PM" descr=""/>
          <p:cNvPicPr/>
          <p:nvPr/>
        </p:nvPicPr>
        <p:blipFill>
          <a:blip r:embed=""/>
          <a:stretch/>
        </p:blipFill>
        <p:spPr>
          <a:xfrm>
            <a:off x="5715000" y="6629400"/>
            <a:ext cx="1440" cy="228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1320"/>
            <a:ext cx="75358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Sources 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3588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used my book for the vocabulary wor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2760"/>
            <a:ext cx="75438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Enter the definition or hint for the word here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25142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 in jumbled fo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352680"/>
            <a:ext cx="3048120" cy="1295640"/>
          </a:xfrm>
          <a:prstGeom prst="wedgeRoundRectCallout">
            <a:avLst>
              <a:gd name="adj1" fmla="val -47032"/>
              <a:gd name="adj2" fmla="val 81740"/>
              <a:gd name="adj3" fmla="val 16667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86200" y="4572000"/>
          <a:ext cx="2349360" cy="17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3493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322280" cy="131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30760" y="6248520"/>
            <a:ext cx="2303640" cy="3682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Click for the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8120" y="4724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2760"/>
            <a:ext cx="75438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Enter the definition or hint for the word here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360" y="25142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 in jumbled fo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3352680"/>
            <a:ext cx="3048120" cy="1295640"/>
          </a:xfrm>
          <a:prstGeom prst="wedgeRoundRectCallout">
            <a:avLst>
              <a:gd name="adj1" fmla="val -47032"/>
              <a:gd name="adj2" fmla="val 81740"/>
              <a:gd name="adj3" fmla="val 16667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86200" y="4572000"/>
          <a:ext cx="2349360" cy="17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3493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322280" cy="1312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30760" y="6248520"/>
            <a:ext cx="2303640" cy="3682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Click for the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8120" y="4724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2760"/>
            <a:ext cx="75438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Enter the definition or hint for the word here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25142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 in jumbled fo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3352680"/>
            <a:ext cx="3048120" cy="1295640"/>
          </a:xfrm>
          <a:prstGeom prst="wedgeRoundRectCallout">
            <a:avLst>
              <a:gd name="adj1" fmla="val -47032"/>
              <a:gd name="adj2" fmla="val 81740"/>
              <a:gd name="adj3" fmla="val 16667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n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86200" y="4572000"/>
          <a:ext cx="2349360" cy="17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3493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322280" cy="1312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30760" y="6248520"/>
            <a:ext cx="2303640" cy="3682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Click for the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8120" y="4724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2760"/>
            <a:ext cx="75438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Enter the definition or hint for the word here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5142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 in jumbled for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3352680"/>
            <a:ext cx="3048120" cy="1295640"/>
          </a:xfrm>
          <a:prstGeom prst="wedgeRoundRectCallout">
            <a:avLst>
              <a:gd name="adj1" fmla="val -47032"/>
              <a:gd name="adj2" fmla="val 81740"/>
              <a:gd name="adj3" fmla="val 16667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 of s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86200" y="4572000"/>
          <a:ext cx="2349360" cy="17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3493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322280" cy="1312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30760" y="6248520"/>
            <a:ext cx="2303640" cy="3682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Click for the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120" y="4724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2760"/>
            <a:ext cx="75438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Enter the definition or hint for the word here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25142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 in jumbled for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3200400"/>
            <a:ext cx="3048120" cy="1295280"/>
          </a:xfrm>
          <a:prstGeom prst="wedgeRoundRectCallout">
            <a:avLst>
              <a:gd name="adj1" fmla="val -47032"/>
              <a:gd name="adj2" fmla="val 81740"/>
              <a:gd name="adj3" fmla="val 16667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w of cos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86200" y="4572000"/>
          <a:ext cx="2349360" cy="17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3493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322280" cy="1312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30760" y="6248520"/>
            <a:ext cx="2303640" cy="3682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Click for the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8120" y="4724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2760"/>
            <a:ext cx="75438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Enter the definition or hint for the word here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25142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 in jumbled 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733920"/>
            <a:ext cx="3048120" cy="1295280"/>
          </a:xfrm>
          <a:prstGeom prst="wedgeRoundRectCallout">
            <a:avLst>
              <a:gd name="adj1" fmla="val -47032"/>
              <a:gd name="adj2" fmla="val 81740"/>
              <a:gd name="adj3" fmla="val 16667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gles of elev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86200" y="4572000"/>
          <a:ext cx="2349360" cy="17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3493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322280" cy="1312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30760" y="6248520"/>
            <a:ext cx="2303640" cy="3682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Click for the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8120" y="4724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2760"/>
            <a:ext cx="75438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Enter the definition or hint for the word here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251424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d in jumbled 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3360" indent="0">
              <a:spcBef>
                <a:spcPts val="799"/>
              </a:spcBef>
              <a:buNone/>
              <a:tabLst>
                <a:tab algn="l" pos="0"/>
                <a:tab algn="l" pos="333360"/>
                <a:tab algn="l" pos="446040"/>
                <a:tab algn="l" pos="903240"/>
                <a:tab algn="l" pos="1360440"/>
                <a:tab algn="l" pos="1817640"/>
                <a:tab algn="l" pos="2274840"/>
                <a:tab algn="l" pos="2732040"/>
                <a:tab algn="l" pos="3189240"/>
                <a:tab algn="l" pos="3646440"/>
                <a:tab algn="l" pos="4103640"/>
                <a:tab algn="l" pos="4560840"/>
                <a:tab algn="l" pos="5018040"/>
                <a:tab algn="l" pos="5475240"/>
                <a:tab algn="l" pos="5932440"/>
                <a:tab algn="l" pos="6389640"/>
                <a:tab algn="l" pos="6846840"/>
                <a:tab algn="l" pos="7304040"/>
                <a:tab algn="l" pos="7761240"/>
                <a:tab algn="l" pos="8218440"/>
                <a:tab algn="l" pos="8675640"/>
                <a:tab algn="l" pos="91328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657600"/>
            <a:ext cx="3048120" cy="1295280"/>
          </a:xfrm>
          <a:prstGeom prst="wedgeRoundRectCallout">
            <a:avLst>
              <a:gd name="adj1" fmla="val -47032"/>
              <a:gd name="adj2" fmla="val 81740"/>
              <a:gd name="adj3" fmla="val 16667"/>
            </a:avLst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gles of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886200" y="4572000"/>
          <a:ext cx="2349360" cy="174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3493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04920" y="5257800"/>
            <a:ext cx="1322280" cy="131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30760" y="6248520"/>
            <a:ext cx="2303640" cy="36828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6ccff"/>
                </a:solidFill>
                <a:latin typeface="Tahoma"/>
              </a:rPr>
              <a:t>Click for the 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8120" y="47242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xt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5376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Tahoma"/>
              </a:rPr>
              <a:t>Real World Application </a:t>
            </a:r>
            <a:endParaRPr b="1" lang="en-US" sz="4400" spc="-1" strike="noStrike">
              <a:solidFill>
                <a:srgbClr val="ccff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5376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onometry is used in medical imaging such as; CAT scans, ultrasounds, EEG, MEG, and EK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logist use trigonometry for measuring and recording techniqu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22:46:36Z</dcterms:created>
  <dc:creator>jonesd</dc:creator>
  <dc:description/>
  <dc:language>en-US</dc:language>
  <cp:lastModifiedBy>jonesd</cp:lastModifiedBy>
  <dcterms:modified xsi:type="dcterms:W3CDTF">2002-06-26T02:46:53Z</dcterms:modified>
  <cp:revision>17</cp:revision>
  <dc:subject/>
  <dc:title>WORD JUMBLE</dc:title>
</cp:coreProperties>
</file>